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D9E90-DE91-427E-925E-25B2BD19E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40562-E913-4572-95E1-D7B1A587F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D097F-2CF5-4FDD-B679-2F48C7883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7D6BE-CEA5-4F74-8A50-4907B2299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8EC5F-246F-4204-AE6D-A85F8BEC5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C3747-19CB-4229-91F9-90BA6A189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357C5-246E-4694-9115-F73136630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A0426-CC4F-4620-B36E-2B537C82C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978F0-8F29-46AE-AA5B-FAC236177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3E5F9-ECC5-4A60-81CE-9165DEA4B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66285-6CA2-4FFC-BCE1-E3DFCBF67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ACE18-CBBD-4F16-8481-035F6035E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4A44B-387B-4B6E-AE53-3A6972B44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DAE81-AA55-4F72-B554-ECF11983C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E1DF1-1151-4593-9527-A4BA3E606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813B0-9CD3-44B5-ADE6-F83C0BD14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D3C1F-09AD-4051-8983-243F220A4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E22BC-0BED-4C77-ADDE-C72EAF7FE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D3544-DC5C-4F47-8DBF-1BEA4CA61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065CF-DA05-4CAE-A4F0-2E407EFA3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A213E-50DD-4763-84F7-EB01231F6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6EA25-D483-45A2-A75D-0C6C470E1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BFFB6-0854-468C-9235-0783D62F6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0FADB-1606-41EE-9CF6-0D0A51E1C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6BD16-94FE-4D33-A193-6053F470B1EF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72170-5CC4-41F6-8EF7-EBFF26BEFCF2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endParaRPr b="1" lang="en-US" sz="6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403280" y="4365720"/>
            <a:ext cx="6400800" cy="39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600" spc="-1" strike="noStrike">
                <a:solidFill>
                  <a:srgbClr val="ffffff"/>
                </a:solidFill>
                <a:latin typeface="Book Antiqua"/>
              </a:rPr>
              <a:t>S</a:t>
            </a:r>
            <a:r>
              <a:rPr b="0" lang="en-US" sz="6600" spc="-1" strike="noStrike">
                <a:solidFill>
                  <a:srgbClr val="ffffff"/>
                </a:solidFill>
                <a:latin typeface="Book Antiqua"/>
              </a:rPr>
              <a:t>ydney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ok Antiqua"/>
              </a:rPr>
              <a:t>Australi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3000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Book Antiqu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179280" y="189000"/>
            <a:ext cx="5257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24000" y="260280"/>
            <a:ext cx="345600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levi : G</a:t>
            </a:r>
            <a:r>
              <a:rPr b="0" lang="ro-RO" sz="1800" spc="-1" strike="noStrike">
                <a:solidFill>
                  <a:srgbClr val="ffffff"/>
                </a:solidFill>
                <a:latin typeface="Tahoma"/>
              </a:rPr>
              <a:t>îrbovean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u</a:t>
            </a:r>
            <a:r>
              <a:rPr b="0" lang="ro-RO" sz="1800" spc="-1" strike="noStrike">
                <a:solidFill>
                  <a:srgbClr val="ffffff"/>
                </a:solidFill>
                <a:latin typeface="Tahoma"/>
              </a:rPr>
              <a:t> Ali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lang="ro-RO" sz="1800" spc="-1" strike="noStrike">
                <a:solidFill>
                  <a:srgbClr val="ffffff"/>
                </a:solidFill>
                <a:latin typeface="Tahoma"/>
              </a:rPr>
              <a:t>Ene Hor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umb</a:t>
            </a:r>
            <a:r>
              <a:rPr b="0" lang="ro-RO" sz="1800" spc="-1" strike="noStrike">
                <a:solidFill>
                  <a:srgbClr val="ffffff"/>
                </a:solidFill>
                <a:latin typeface="Tahoma"/>
              </a:rPr>
              <a:t>ănac Cristi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Tahoma"/>
              </a:rPr>
              <a:t>Bibliografie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: wikipedia.or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              </a:t>
            </a:r>
            <a:r>
              <a:rPr b="0" lang="ro-RO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google.r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eaeaea"/>
                </a:solidFill>
                <a:latin typeface="Book Antiqua"/>
              </a:rPr>
              <a:t>Sydney este capitala statului Noua Galie de Sud, Australia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eaeaea"/>
                </a:solidFill>
                <a:latin typeface="Book Antiqua"/>
              </a:rPr>
              <a:t>De asemenea, orașul este cel mai mare din Australia, cu o populație de 4.200.000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eaeaea"/>
                </a:solidFill>
                <a:latin typeface="Book Antiqua"/>
              </a:rPr>
              <a:t>În Sydney se află celebra Sydney Opera House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68360" y="836280"/>
            <a:ext cx="8229600" cy="510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eaeaea"/>
                </a:solidFill>
                <a:latin typeface="Book Antiqua"/>
              </a:rPr>
              <a:t>Sydney deține recordul superlativelor în Australia: este cel mai mare oraș, cel mai mare centru industrial, cultural și financiar, cel mai mare port, cel mai mare nod de comunicație</a:t>
            </a:r>
            <a:r>
              <a:rPr b="0" lang="en-US" sz="3200" spc="-1" strike="noStrike">
                <a:solidFill>
                  <a:srgbClr val="eaeaea"/>
                </a:solidFill>
                <a:latin typeface="Book Antiqua"/>
              </a:rPr>
              <a:t>.</a:t>
            </a:r>
            <a:r>
              <a:rPr b="0" lang="ro-RO" sz="3200" spc="-1" strike="noStrike">
                <a:solidFill>
                  <a:srgbClr val="eaeaea"/>
                </a:solidFill>
                <a:latin typeface="Book Antiqu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eaeaea"/>
                </a:solidFill>
                <a:latin typeface="Book Antiqua"/>
              </a:rPr>
              <a:t>În centrul orașului se află și cea mai mare aglomerație de zgârie-nori, de magazine, de galerii, de baruri și de restaurante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Book Antiqu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53964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Portul Sydney este inima şi sufletul oraşului. Mai mult, este locul vestitei Opere şi al Podului Portului. Oricare din străzile oraşului oferă o perspectivă asupra portului şi clădirilor sale. Cea mai bună alegere de vizitare a portului este o croazieră in portul Darling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Book Antiqu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-396720" y="-27000"/>
            <a:ext cx="9937440" cy="6912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68360" y="1557360"/>
            <a:ext cx="8229600" cy="61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Book Antiqua"/>
              </a:rPr>
              <a:t>Opera din Sydney este cea mai cunoscută clădire a secolului XX, datorită formei inovatoare şi a tehnicilor de construcţie folosite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Book Antiqua"/>
              </a:rPr>
              <a:t>La 30 de ani după inaugurare, clădirea a fost inclusă în patrimoniul ţării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7T13:49:46Z</dcterms:created>
  <dc:creator>elev</dc:creator>
  <dc:description/>
  <dc:language>en-US</dc:language>
  <cp:lastModifiedBy>elev</cp:lastModifiedBy>
  <dcterms:modified xsi:type="dcterms:W3CDTF">2011-03-04T13:31:07Z</dcterms:modified>
  <cp:revision>8</cp:revision>
  <dc:subject/>
  <dc:title>Diapozitivul 1</dc:title>
</cp:coreProperties>
</file>